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35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9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5B26-8273-4868-A147-C292A8A13E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C00-EA63-4947-B676-DF90350015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AD99-570A-43C9-A01A-9219A22FFF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052-0091-4FA5-979E-E6113186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A25-E0B7-4CBB-8210-416FD3BA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E21-99EC-4EB0-A0A3-4FB5DBB1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148-B72F-478C-A410-28F49216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F1B-5AFF-4A0F-B2A2-C17DDC74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928-FF49-4308-B157-654C78C7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FB1-9870-4BA7-BC7A-4D8F39BB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0A9-775C-4411-A2AD-8A8102DA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9B4-AC49-4AA1-94C9-184A788E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280-EC23-4751-8195-40E44CAB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630-82B2-449E-AF7E-A8F6EE8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C90-739E-48F2-B01F-4EFCE304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1CD1-5807-4DA0-AC6F-04CC7C658A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2.docx"/><Relationship Id="rId9" Type="http://schemas.openxmlformats.org/officeDocument/2006/relationships/image" Target="../media/image8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9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10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3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5.wmf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2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package" Target="../embeddings/oleObject3.docx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0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1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37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38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39.wmf"/><Relationship Id="rId14" Type="http://schemas.openxmlformats.org/officeDocument/2006/relationships/package" Target="../embeddings/oleObject5.docx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4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2.wmf"/><Relationship Id="rId10" Type="http://schemas.openxmlformats.org/officeDocument/2006/relationships/package" Target="../embeddings/oleObject3.docx"/><Relationship Id="rId11" Type="http://schemas.openxmlformats.org/officeDocument/2006/relationships/image" Target="../media/image43.wmf"/><Relationship Id="rId12" Type="http://schemas.openxmlformats.org/officeDocument/2006/relationships/package" Target="../embeddings/oleObject4.docx"/><Relationship Id="rId13" Type="http://schemas.openxmlformats.org/officeDocument/2006/relationships/image" Target="../media/image44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8"/>
          <p:cNvSpPr/>
          <p:nvPr/>
        </p:nvSpPr>
        <p:spPr>
          <a:xfrm>
            <a:off x="3492360" y="306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§4.1.1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微分方程及其通解与特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0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0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1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1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3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1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2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后作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4" name="Object 2"/>
          <p:cNvGraphicFramePr/>
          <p:nvPr/>
        </p:nvGraphicFramePr>
        <p:xfrm>
          <a:off x="1000080" y="1071720"/>
          <a:ext cx="7505640" cy="3308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1071720"/>
                    <a:ext cx="7505640" cy="33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928800" y="4000680"/>
          <a:ext cx="7453080" cy="1714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28800" y="4000680"/>
                    <a:ext cx="74530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8"/>
          <p:cNvSpPr/>
          <p:nvPr/>
        </p:nvSpPr>
        <p:spPr>
          <a:xfrm>
            <a:off x="-1440" y="6453360"/>
            <a:ext cx="469800" cy="404640"/>
          </a:xfrm>
          <a:custGeom>
            <a:avLst/>
            <a:gdLst>
              <a:gd name="textAreaLeft" fmla="*/ 0 w 469800"/>
              <a:gd name="textAreaRight" fmla="*/ 470160 w 4698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733" h="705">
                <a:moveTo>
                  <a:pt x="368" y="705"/>
                </a:moveTo>
                <a:cubicBezTo>
                  <a:pt x="367" y="703"/>
                  <a:pt x="367" y="703"/>
                  <a:pt x="351" y="697"/>
                </a:cubicBezTo>
                <a:cubicBezTo>
                  <a:pt x="277" y="671"/>
                  <a:pt x="203" y="654"/>
                  <a:pt x="125" y="642"/>
                </a:cubicBezTo>
                <a:cubicBezTo>
                  <a:pt x="108" y="640"/>
                  <a:pt x="91" y="638"/>
                  <a:pt x="74" y="636"/>
                </a:cubicBezTo>
                <a:cubicBezTo>
                  <a:pt x="74" y="598"/>
                  <a:pt x="73" y="559"/>
                  <a:pt x="73" y="521"/>
                </a:cubicBezTo>
                <a:cubicBezTo>
                  <a:pt x="69" y="521"/>
                  <a:pt x="63" y="528"/>
                  <a:pt x="60" y="530"/>
                </a:cubicBezTo>
                <a:cubicBezTo>
                  <a:pt x="42" y="538"/>
                  <a:pt x="46" y="523"/>
                  <a:pt x="46" y="507"/>
                </a:cubicBezTo>
                <a:cubicBezTo>
                  <a:pt x="49" y="485"/>
                  <a:pt x="49" y="485"/>
                  <a:pt x="51" y="477"/>
                </a:cubicBezTo>
                <a:cubicBezTo>
                  <a:pt x="52" y="483"/>
                  <a:pt x="54" y="488"/>
                  <a:pt x="57" y="493"/>
                </a:cubicBezTo>
                <a:cubicBezTo>
                  <a:pt x="59" y="493"/>
                  <a:pt x="61" y="493"/>
                  <a:pt x="63" y="493"/>
                </a:cubicBezTo>
                <a:cubicBezTo>
                  <a:pt x="82" y="468"/>
                  <a:pt x="68" y="435"/>
                  <a:pt x="58" y="409"/>
                </a:cubicBezTo>
                <a:cubicBezTo>
                  <a:pt x="55" y="407"/>
                  <a:pt x="54" y="407"/>
                  <a:pt x="50" y="407"/>
                </a:cubicBezTo>
                <a:cubicBezTo>
                  <a:pt x="46" y="411"/>
                  <a:pt x="46" y="419"/>
                  <a:pt x="45" y="425"/>
                </a:cubicBezTo>
                <a:cubicBezTo>
                  <a:pt x="36" y="408"/>
                  <a:pt x="37" y="381"/>
                  <a:pt x="62" y="384"/>
                </a:cubicBezTo>
                <a:cubicBezTo>
                  <a:pt x="66" y="387"/>
                  <a:pt x="69" y="396"/>
                  <a:pt x="72" y="397"/>
                </a:cubicBezTo>
                <a:cubicBezTo>
                  <a:pt x="75" y="395"/>
                  <a:pt x="73" y="382"/>
                  <a:pt x="73" y="378"/>
                </a:cubicBezTo>
                <a:cubicBezTo>
                  <a:pt x="63" y="366"/>
                  <a:pt x="62" y="367"/>
                  <a:pt x="50" y="377"/>
                </a:cubicBezTo>
                <a:cubicBezTo>
                  <a:pt x="49" y="362"/>
                  <a:pt x="45" y="348"/>
                  <a:pt x="56" y="336"/>
                </a:cubicBezTo>
                <a:cubicBezTo>
                  <a:pt x="63" y="337"/>
                  <a:pt x="67" y="337"/>
                  <a:pt x="71" y="343"/>
                </a:cubicBezTo>
                <a:cubicBezTo>
                  <a:pt x="71" y="343"/>
                  <a:pt x="72" y="343"/>
                  <a:pt x="73" y="343"/>
                </a:cubicBezTo>
                <a:cubicBezTo>
                  <a:pt x="73" y="324"/>
                  <a:pt x="73" y="305"/>
                  <a:pt x="74" y="286"/>
                </a:cubicBezTo>
                <a:cubicBezTo>
                  <a:pt x="70" y="281"/>
                  <a:pt x="66" y="276"/>
                  <a:pt x="62" y="272"/>
                </a:cubicBezTo>
                <a:cubicBezTo>
                  <a:pt x="61" y="257"/>
                  <a:pt x="61" y="257"/>
                  <a:pt x="60" y="256"/>
                </a:cubicBezTo>
                <a:cubicBezTo>
                  <a:pt x="58" y="256"/>
                  <a:pt x="57" y="256"/>
                  <a:pt x="56" y="256"/>
                </a:cubicBezTo>
                <a:cubicBezTo>
                  <a:pt x="47" y="269"/>
                  <a:pt x="54" y="277"/>
                  <a:pt x="61" y="289"/>
                </a:cubicBezTo>
                <a:cubicBezTo>
                  <a:pt x="59" y="289"/>
                  <a:pt x="59" y="289"/>
                  <a:pt x="44" y="282"/>
                </a:cubicBezTo>
                <a:cubicBezTo>
                  <a:pt x="36" y="276"/>
                  <a:pt x="33" y="269"/>
                  <a:pt x="39" y="259"/>
                </a:cubicBezTo>
                <a:cubicBezTo>
                  <a:pt x="39" y="258"/>
                  <a:pt x="39" y="257"/>
                  <a:pt x="39" y="256"/>
                </a:cubicBezTo>
                <a:cubicBezTo>
                  <a:pt x="37" y="254"/>
                  <a:pt x="37" y="254"/>
                  <a:pt x="32" y="254"/>
                </a:cubicBezTo>
                <a:cubicBezTo>
                  <a:pt x="16" y="262"/>
                  <a:pt x="31" y="284"/>
                  <a:pt x="37" y="292"/>
                </a:cubicBezTo>
                <a:cubicBezTo>
                  <a:pt x="31" y="292"/>
                  <a:pt x="24" y="288"/>
                  <a:pt x="19" y="284"/>
                </a:cubicBezTo>
                <a:cubicBezTo>
                  <a:pt x="7" y="271"/>
                  <a:pt x="0" y="264"/>
                  <a:pt x="10" y="247"/>
                </a:cubicBezTo>
                <a:cubicBezTo>
                  <a:pt x="22" y="238"/>
                  <a:pt x="33" y="230"/>
                  <a:pt x="49" y="230"/>
                </a:cubicBezTo>
                <a:cubicBezTo>
                  <a:pt x="58" y="233"/>
                  <a:pt x="68" y="235"/>
                  <a:pt x="78" y="238"/>
                </a:cubicBezTo>
                <a:cubicBezTo>
                  <a:pt x="90" y="240"/>
                  <a:pt x="111" y="243"/>
                  <a:pt x="121" y="237"/>
                </a:cubicBezTo>
                <a:cubicBezTo>
                  <a:pt x="124" y="223"/>
                  <a:pt x="122" y="219"/>
                  <a:pt x="137" y="219"/>
                </a:cubicBezTo>
                <a:cubicBezTo>
                  <a:pt x="144" y="223"/>
                  <a:pt x="148" y="226"/>
                  <a:pt x="156" y="226"/>
                </a:cubicBezTo>
                <a:cubicBezTo>
                  <a:pt x="174" y="215"/>
                  <a:pt x="191" y="214"/>
                  <a:pt x="211" y="214"/>
                </a:cubicBezTo>
                <a:cubicBezTo>
                  <a:pt x="250" y="217"/>
                  <a:pt x="289" y="222"/>
                  <a:pt x="327" y="221"/>
                </a:cubicBezTo>
                <a:cubicBezTo>
                  <a:pt x="358" y="213"/>
                  <a:pt x="388" y="206"/>
                  <a:pt x="418" y="194"/>
                </a:cubicBezTo>
                <a:cubicBezTo>
                  <a:pt x="429" y="187"/>
                  <a:pt x="475" y="154"/>
                  <a:pt x="455" y="138"/>
                </a:cubicBezTo>
                <a:cubicBezTo>
                  <a:pt x="433" y="133"/>
                  <a:pt x="408" y="127"/>
                  <a:pt x="387" y="138"/>
                </a:cubicBezTo>
                <a:cubicBezTo>
                  <a:pt x="386" y="138"/>
                  <a:pt x="385" y="138"/>
                  <a:pt x="384" y="138"/>
                </a:cubicBezTo>
                <a:cubicBezTo>
                  <a:pt x="379" y="127"/>
                  <a:pt x="372" y="119"/>
                  <a:pt x="363" y="112"/>
                </a:cubicBezTo>
                <a:cubicBezTo>
                  <a:pt x="371" y="104"/>
                  <a:pt x="383" y="104"/>
                  <a:pt x="392" y="98"/>
                </a:cubicBezTo>
                <a:cubicBezTo>
                  <a:pt x="402" y="83"/>
                  <a:pt x="410" y="73"/>
                  <a:pt x="427" y="65"/>
                </a:cubicBezTo>
                <a:cubicBezTo>
                  <a:pt x="442" y="60"/>
                  <a:pt x="442" y="60"/>
                  <a:pt x="444" y="60"/>
                </a:cubicBezTo>
                <a:cubicBezTo>
                  <a:pt x="436" y="67"/>
                  <a:pt x="424" y="75"/>
                  <a:pt x="424" y="86"/>
                </a:cubicBezTo>
                <a:cubicBezTo>
                  <a:pt x="429" y="90"/>
                  <a:pt x="438" y="82"/>
                  <a:pt x="442" y="79"/>
                </a:cubicBezTo>
                <a:cubicBezTo>
                  <a:pt x="452" y="63"/>
                  <a:pt x="464" y="50"/>
                  <a:pt x="486" y="52"/>
                </a:cubicBezTo>
                <a:cubicBezTo>
                  <a:pt x="475" y="58"/>
                  <a:pt x="460" y="72"/>
                  <a:pt x="471" y="85"/>
                </a:cubicBezTo>
                <a:cubicBezTo>
                  <a:pt x="480" y="85"/>
                  <a:pt x="489" y="63"/>
                  <a:pt x="493" y="57"/>
                </a:cubicBezTo>
                <a:cubicBezTo>
                  <a:pt x="496" y="54"/>
                  <a:pt x="499" y="52"/>
                  <a:pt x="503" y="50"/>
                </a:cubicBezTo>
                <a:cubicBezTo>
                  <a:pt x="518" y="50"/>
                  <a:pt x="526" y="51"/>
                  <a:pt x="538" y="63"/>
                </a:cubicBezTo>
                <a:cubicBezTo>
                  <a:pt x="522" y="65"/>
                  <a:pt x="499" y="73"/>
                  <a:pt x="508" y="93"/>
                </a:cubicBezTo>
                <a:cubicBezTo>
                  <a:pt x="514" y="96"/>
                  <a:pt x="525" y="84"/>
                  <a:pt x="530" y="80"/>
                </a:cubicBezTo>
                <a:cubicBezTo>
                  <a:pt x="544" y="75"/>
                  <a:pt x="557" y="72"/>
                  <a:pt x="571" y="81"/>
                </a:cubicBezTo>
                <a:cubicBezTo>
                  <a:pt x="579" y="96"/>
                  <a:pt x="570" y="109"/>
                  <a:pt x="561" y="122"/>
                </a:cubicBezTo>
                <a:cubicBezTo>
                  <a:pt x="561" y="108"/>
                  <a:pt x="560" y="104"/>
                  <a:pt x="548" y="96"/>
                </a:cubicBezTo>
                <a:cubicBezTo>
                  <a:pt x="520" y="88"/>
                  <a:pt x="527" y="117"/>
                  <a:pt x="540" y="129"/>
                </a:cubicBezTo>
                <a:cubicBezTo>
                  <a:pt x="554" y="129"/>
                  <a:pt x="568" y="124"/>
                  <a:pt x="583" y="125"/>
                </a:cubicBezTo>
                <a:cubicBezTo>
                  <a:pt x="584" y="127"/>
                  <a:pt x="586" y="128"/>
                  <a:pt x="588" y="130"/>
                </a:cubicBezTo>
                <a:cubicBezTo>
                  <a:pt x="601" y="152"/>
                  <a:pt x="580" y="162"/>
                  <a:pt x="561" y="171"/>
                </a:cubicBezTo>
                <a:cubicBezTo>
                  <a:pt x="560" y="171"/>
                  <a:pt x="560" y="171"/>
                  <a:pt x="559" y="171"/>
                </a:cubicBezTo>
                <a:cubicBezTo>
                  <a:pt x="566" y="160"/>
                  <a:pt x="565" y="155"/>
                  <a:pt x="555" y="146"/>
                </a:cubicBezTo>
                <a:cubicBezTo>
                  <a:pt x="536" y="146"/>
                  <a:pt x="532" y="160"/>
                  <a:pt x="532" y="175"/>
                </a:cubicBezTo>
                <a:cubicBezTo>
                  <a:pt x="548" y="197"/>
                  <a:pt x="589" y="201"/>
                  <a:pt x="613" y="194"/>
                </a:cubicBezTo>
                <a:cubicBezTo>
                  <a:pt x="621" y="188"/>
                  <a:pt x="639" y="174"/>
                  <a:pt x="631" y="163"/>
                </a:cubicBezTo>
                <a:cubicBezTo>
                  <a:pt x="615" y="156"/>
                  <a:pt x="607" y="164"/>
                  <a:pt x="595" y="174"/>
                </a:cubicBezTo>
                <a:cubicBezTo>
                  <a:pt x="595" y="152"/>
                  <a:pt x="604" y="136"/>
                  <a:pt x="628" y="136"/>
                </a:cubicBezTo>
                <a:cubicBezTo>
                  <a:pt x="648" y="141"/>
                  <a:pt x="656" y="152"/>
                  <a:pt x="656" y="172"/>
                </a:cubicBezTo>
                <a:cubicBezTo>
                  <a:pt x="647" y="194"/>
                  <a:pt x="628" y="203"/>
                  <a:pt x="607" y="210"/>
                </a:cubicBezTo>
                <a:cubicBezTo>
                  <a:pt x="579" y="214"/>
                  <a:pt x="550" y="206"/>
                  <a:pt x="524" y="196"/>
                </a:cubicBezTo>
                <a:cubicBezTo>
                  <a:pt x="518" y="196"/>
                  <a:pt x="517" y="195"/>
                  <a:pt x="512" y="198"/>
                </a:cubicBezTo>
                <a:cubicBezTo>
                  <a:pt x="512" y="200"/>
                  <a:pt x="512" y="201"/>
                  <a:pt x="512" y="202"/>
                </a:cubicBezTo>
                <a:cubicBezTo>
                  <a:pt x="525" y="214"/>
                  <a:pt x="547" y="220"/>
                  <a:pt x="564" y="226"/>
                </a:cubicBezTo>
                <a:cubicBezTo>
                  <a:pt x="569" y="227"/>
                  <a:pt x="668" y="254"/>
                  <a:pt x="655" y="217"/>
                </a:cubicBezTo>
                <a:cubicBezTo>
                  <a:pt x="644" y="212"/>
                  <a:pt x="627" y="221"/>
                  <a:pt x="617" y="224"/>
                </a:cubicBezTo>
                <a:cubicBezTo>
                  <a:pt x="619" y="210"/>
                  <a:pt x="635" y="200"/>
                  <a:pt x="648" y="196"/>
                </a:cubicBezTo>
                <a:cubicBezTo>
                  <a:pt x="667" y="198"/>
                  <a:pt x="681" y="210"/>
                  <a:pt x="681" y="230"/>
                </a:cubicBezTo>
                <a:cubicBezTo>
                  <a:pt x="674" y="254"/>
                  <a:pt x="636" y="255"/>
                  <a:pt x="617" y="254"/>
                </a:cubicBezTo>
                <a:cubicBezTo>
                  <a:pt x="605" y="250"/>
                  <a:pt x="511" y="216"/>
                  <a:pt x="507" y="221"/>
                </a:cubicBezTo>
                <a:cubicBezTo>
                  <a:pt x="511" y="226"/>
                  <a:pt x="517" y="230"/>
                  <a:pt x="518" y="237"/>
                </a:cubicBezTo>
                <a:cubicBezTo>
                  <a:pt x="567" y="254"/>
                  <a:pt x="624" y="277"/>
                  <a:pt x="676" y="265"/>
                </a:cubicBezTo>
                <a:cubicBezTo>
                  <a:pt x="698" y="255"/>
                  <a:pt x="715" y="238"/>
                  <a:pt x="705" y="213"/>
                </a:cubicBezTo>
                <a:cubicBezTo>
                  <a:pt x="694" y="200"/>
                  <a:pt x="685" y="198"/>
                  <a:pt x="669" y="197"/>
                </a:cubicBezTo>
                <a:cubicBezTo>
                  <a:pt x="684" y="184"/>
                  <a:pt x="703" y="185"/>
                  <a:pt x="719" y="195"/>
                </a:cubicBezTo>
                <a:cubicBezTo>
                  <a:pt x="733" y="222"/>
                  <a:pt x="720" y="251"/>
                  <a:pt x="701" y="272"/>
                </a:cubicBezTo>
                <a:cubicBezTo>
                  <a:pt x="689" y="280"/>
                  <a:pt x="689" y="280"/>
                  <a:pt x="674" y="288"/>
                </a:cubicBezTo>
                <a:cubicBezTo>
                  <a:pt x="674" y="303"/>
                  <a:pt x="674" y="318"/>
                  <a:pt x="674" y="332"/>
                </a:cubicBezTo>
                <a:cubicBezTo>
                  <a:pt x="674" y="332"/>
                  <a:pt x="675" y="333"/>
                  <a:pt x="675" y="333"/>
                </a:cubicBezTo>
                <a:cubicBezTo>
                  <a:pt x="698" y="310"/>
                  <a:pt x="695" y="357"/>
                  <a:pt x="695" y="367"/>
                </a:cubicBezTo>
                <a:cubicBezTo>
                  <a:pt x="691" y="364"/>
                  <a:pt x="688" y="361"/>
                  <a:pt x="683" y="359"/>
                </a:cubicBezTo>
                <a:cubicBezTo>
                  <a:pt x="671" y="364"/>
                  <a:pt x="674" y="376"/>
                  <a:pt x="674" y="387"/>
                </a:cubicBezTo>
                <a:cubicBezTo>
                  <a:pt x="674" y="387"/>
                  <a:pt x="674" y="387"/>
                  <a:pt x="675" y="387"/>
                </a:cubicBezTo>
                <a:cubicBezTo>
                  <a:pt x="677" y="383"/>
                  <a:pt x="680" y="379"/>
                  <a:pt x="682" y="375"/>
                </a:cubicBezTo>
                <a:cubicBezTo>
                  <a:pt x="705" y="364"/>
                  <a:pt x="705" y="399"/>
                  <a:pt x="701" y="412"/>
                </a:cubicBezTo>
                <a:cubicBezTo>
                  <a:pt x="700" y="412"/>
                  <a:pt x="700" y="412"/>
                  <a:pt x="699" y="412"/>
                </a:cubicBezTo>
                <a:cubicBezTo>
                  <a:pt x="698" y="405"/>
                  <a:pt x="698" y="397"/>
                  <a:pt x="690" y="397"/>
                </a:cubicBezTo>
                <a:cubicBezTo>
                  <a:pt x="689" y="399"/>
                  <a:pt x="688" y="401"/>
                  <a:pt x="686" y="402"/>
                </a:cubicBezTo>
                <a:cubicBezTo>
                  <a:pt x="678" y="428"/>
                  <a:pt x="666" y="458"/>
                  <a:pt x="683" y="483"/>
                </a:cubicBezTo>
                <a:cubicBezTo>
                  <a:pt x="685" y="483"/>
                  <a:pt x="687" y="483"/>
                  <a:pt x="689" y="483"/>
                </a:cubicBezTo>
                <a:cubicBezTo>
                  <a:pt x="692" y="479"/>
                  <a:pt x="693" y="473"/>
                  <a:pt x="694" y="468"/>
                </a:cubicBezTo>
                <a:cubicBezTo>
                  <a:pt x="698" y="484"/>
                  <a:pt x="698" y="484"/>
                  <a:pt x="699" y="495"/>
                </a:cubicBezTo>
                <a:cubicBezTo>
                  <a:pt x="699" y="521"/>
                  <a:pt x="698" y="534"/>
                  <a:pt x="676" y="512"/>
                </a:cubicBezTo>
                <a:cubicBezTo>
                  <a:pt x="676" y="512"/>
                  <a:pt x="675" y="512"/>
                  <a:pt x="675" y="513"/>
                </a:cubicBezTo>
                <a:cubicBezTo>
                  <a:pt x="675" y="613"/>
                  <a:pt x="675" y="613"/>
                  <a:pt x="674" y="631"/>
                </a:cubicBezTo>
                <a:cubicBezTo>
                  <a:pt x="673" y="632"/>
                  <a:pt x="673" y="633"/>
                  <a:pt x="673" y="633"/>
                </a:cubicBezTo>
                <a:cubicBezTo>
                  <a:pt x="582" y="649"/>
                  <a:pt x="493" y="665"/>
                  <a:pt x="405" y="694"/>
                </a:cubicBezTo>
                <a:cubicBezTo>
                  <a:pt x="398" y="697"/>
                  <a:pt x="390" y="700"/>
                  <a:pt x="383" y="704"/>
                </a:cubicBezTo>
                <a:cubicBezTo>
                  <a:pt x="378" y="704"/>
                  <a:pt x="373" y="704"/>
                  <a:pt x="368" y="705"/>
                </a:cubicBezTo>
                <a:close/>
                <a:moveTo>
                  <a:pt x="371" y="683"/>
                </a:moveTo>
                <a:cubicBezTo>
                  <a:pt x="282" y="648"/>
                  <a:pt x="190" y="631"/>
                  <a:pt x="96" y="618"/>
                </a:cubicBezTo>
                <a:cubicBezTo>
                  <a:pt x="95" y="617"/>
                  <a:pt x="94" y="617"/>
                  <a:pt x="94" y="616"/>
                </a:cubicBezTo>
                <a:cubicBezTo>
                  <a:pt x="94" y="513"/>
                  <a:pt x="94" y="409"/>
                  <a:pt x="94" y="306"/>
                </a:cubicBezTo>
                <a:cubicBezTo>
                  <a:pt x="96" y="304"/>
                  <a:pt x="106" y="306"/>
                  <a:pt x="110" y="306"/>
                </a:cubicBezTo>
                <a:cubicBezTo>
                  <a:pt x="197" y="319"/>
                  <a:pt x="285" y="329"/>
                  <a:pt x="372" y="341"/>
                </a:cubicBezTo>
                <a:cubicBezTo>
                  <a:pt x="386" y="339"/>
                  <a:pt x="400" y="337"/>
                  <a:pt x="414" y="336"/>
                </a:cubicBezTo>
                <a:cubicBezTo>
                  <a:pt x="494" y="322"/>
                  <a:pt x="624" y="302"/>
                  <a:pt x="640" y="298"/>
                </a:cubicBezTo>
                <a:cubicBezTo>
                  <a:pt x="644" y="298"/>
                  <a:pt x="648" y="298"/>
                  <a:pt x="653" y="297"/>
                </a:cubicBezTo>
                <a:cubicBezTo>
                  <a:pt x="653" y="299"/>
                  <a:pt x="653" y="299"/>
                  <a:pt x="653" y="615"/>
                </a:cubicBezTo>
                <a:cubicBezTo>
                  <a:pt x="653" y="615"/>
                  <a:pt x="652" y="616"/>
                  <a:pt x="651" y="616"/>
                </a:cubicBezTo>
                <a:cubicBezTo>
                  <a:pt x="594" y="625"/>
                  <a:pt x="537" y="638"/>
                  <a:pt x="481" y="650"/>
                </a:cubicBezTo>
                <a:cubicBezTo>
                  <a:pt x="447" y="659"/>
                  <a:pt x="412" y="668"/>
                  <a:pt x="380" y="683"/>
                </a:cubicBezTo>
                <a:cubicBezTo>
                  <a:pt x="377" y="683"/>
                  <a:pt x="374" y="683"/>
                  <a:pt x="371" y="683"/>
                </a:cubicBezTo>
                <a:close/>
                <a:moveTo>
                  <a:pt x="357" y="320"/>
                </a:moveTo>
                <a:cubicBezTo>
                  <a:pt x="348" y="317"/>
                  <a:pt x="344" y="311"/>
                  <a:pt x="340" y="303"/>
                </a:cubicBezTo>
                <a:cubicBezTo>
                  <a:pt x="340" y="295"/>
                  <a:pt x="346" y="292"/>
                  <a:pt x="352" y="288"/>
                </a:cubicBezTo>
                <a:cubicBezTo>
                  <a:pt x="357" y="288"/>
                  <a:pt x="367" y="288"/>
                  <a:pt x="370" y="291"/>
                </a:cubicBezTo>
                <a:cubicBezTo>
                  <a:pt x="366" y="301"/>
                  <a:pt x="357" y="291"/>
                  <a:pt x="358" y="307"/>
                </a:cubicBezTo>
                <a:cubicBezTo>
                  <a:pt x="362" y="311"/>
                  <a:pt x="368" y="315"/>
                  <a:pt x="369" y="319"/>
                </a:cubicBezTo>
                <a:cubicBezTo>
                  <a:pt x="365" y="320"/>
                  <a:pt x="361" y="320"/>
                  <a:pt x="357" y="320"/>
                </a:cubicBezTo>
                <a:close/>
                <a:moveTo>
                  <a:pt x="389" y="319"/>
                </a:moveTo>
                <a:cubicBezTo>
                  <a:pt x="385" y="316"/>
                  <a:pt x="386" y="311"/>
                  <a:pt x="386" y="306"/>
                </a:cubicBezTo>
                <a:cubicBezTo>
                  <a:pt x="394" y="281"/>
                  <a:pt x="447" y="286"/>
                  <a:pt x="466" y="295"/>
                </a:cubicBezTo>
                <a:cubicBezTo>
                  <a:pt x="466" y="297"/>
                  <a:pt x="466" y="299"/>
                  <a:pt x="466" y="300"/>
                </a:cubicBezTo>
                <a:cubicBezTo>
                  <a:pt x="464" y="302"/>
                  <a:pt x="462" y="305"/>
                  <a:pt x="460" y="307"/>
                </a:cubicBezTo>
                <a:cubicBezTo>
                  <a:pt x="457" y="308"/>
                  <a:pt x="429" y="312"/>
                  <a:pt x="389" y="319"/>
                </a:cubicBezTo>
                <a:close/>
                <a:moveTo>
                  <a:pt x="318" y="314"/>
                </a:moveTo>
                <a:cubicBezTo>
                  <a:pt x="305" y="310"/>
                  <a:pt x="305" y="292"/>
                  <a:pt x="316" y="286"/>
                </a:cubicBezTo>
                <a:cubicBezTo>
                  <a:pt x="321" y="286"/>
                  <a:pt x="328" y="284"/>
                  <a:pt x="328" y="290"/>
                </a:cubicBezTo>
                <a:cubicBezTo>
                  <a:pt x="316" y="298"/>
                  <a:pt x="321" y="302"/>
                  <a:pt x="322" y="313"/>
                </a:cubicBezTo>
                <a:cubicBezTo>
                  <a:pt x="321" y="313"/>
                  <a:pt x="319" y="314"/>
                  <a:pt x="318" y="314"/>
                </a:cubicBezTo>
                <a:close/>
                <a:moveTo>
                  <a:pt x="291" y="311"/>
                </a:moveTo>
                <a:cubicBezTo>
                  <a:pt x="280" y="309"/>
                  <a:pt x="269" y="307"/>
                  <a:pt x="258" y="305"/>
                </a:cubicBezTo>
                <a:cubicBezTo>
                  <a:pt x="258" y="293"/>
                  <a:pt x="289" y="275"/>
                  <a:pt x="301" y="275"/>
                </a:cubicBezTo>
                <a:cubicBezTo>
                  <a:pt x="302" y="276"/>
                  <a:pt x="302" y="276"/>
                  <a:pt x="302" y="277"/>
                </a:cubicBezTo>
                <a:cubicBezTo>
                  <a:pt x="296" y="285"/>
                  <a:pt x="291" y="289"/>
                  <a:pt x="291" y="300"/>
                </a:cubicBezTo>
                <a:cubicBezTo>
                  <a:pt x="293" y="303"/>
                  <a:pt x="296" y="306"/>
                  <a:pt x="297" y="310"/>
                </a:cubicBezTo>
                <a:cubicBezTo>
                  <a:pt x="295" y="310"/>
                  <a:pt x="293" y="310"/>
                  <a:pt x="291" y="311"/>
                </a:cubicBezTo>
                <a:close/>
                <a:moveTo>
                  <a:pt x="522" y="297"/>
                </a:moveTo>
                <a:cubicBezTo>
                  <a:pt x="522" y="294"/>
                  <a:pt x="523" y="290"/>
                  <a:pt x="523" y="287"/>
                </a:cubicBezTo>
                <a:cubicBezTo>
                  <a:pt x="510" y="278"/>
                  <a:pt x="476" y="280"/>
                  <a:pt x="468" y="265"/>
                </a:cubicBezTo>
                <a:cubicBezTo>
                  <a:pt x="468" y="236"/>
                  <a:pt x="489" y="247"/>
                  <a:pt x="502" y="261"/>
                </a:cubicBezTo>
                <a:cubicBezTo>
                  <a:pt x="507" y="261"/>
                  <a:pt x="512" y="256"/>
                  <a:pt x="515" y="253"/>
                </a:cubicBezTo>
                <a:cubicBezTo>
                  <a:pt x="542" y="256"/>
                  <a:pt x="573" y="271"/>
                  <a:pt x="597" y="282"/>
                </a:cubicBezTo>
                <a:cubicBezTo>
                  <a:pt x="597" y="283"/>
                  <a:pt x="597" y="284"/>
                  <a:pt x="597" y="285"/>
                </a:cubicBezTo>
                <a:cubicBezTo>
                  <a:pt x="590" y="287"/>
                  <a:pt x="590" y="287"/>
                  <a:pt x="522" y="297"/>
                </a:cubicBezTo>
                <a:close/>
                <a:moveTo>
                  <a:pt x="174" y="295"/>
                </a:moveTo>
                <a:cubicBezTo>
                  <a:pt x="162" y="293"/>
                  <a:pt x="150" y="291"/>
                  <a:pt x="139" y="289"/>
                </a:cubicBezTo>
                <a:cubicBezTo>
                  <a:pt x="138" y="289"/>
                  <a:pt x="138" y="288"/>
                  <a:pt x="138" y="288"/>
                </a:cubicBezTo>
                <a:cubicBezTo>
                  <a:pt x="146" y="285"/>
                  <a:pt x="156" y="280"/>
                  <a:pt x="156" y="269"/>
                </a:cubicBezTo>
                <a:cubicBezTo>
                  <a:pt x="154" y="267"/>
                  <a:pt x="152" y="264"/>
                  <a:pt x="150" y="262"/>
                </a:cubicBezTo>
                <a:cubicBezTo>
                  <a:pt x="140" y="255"/>
                  <a:pt x="130" y="251"/>
                  <a:pt x="144" y="245"/>
                </a:cubicBezTo>
                <a:cubicBezTo>
                  <a:pt x="162" y="245"/>
                  <a:pt x="164" y="258"/>
                  <a:pt x="174" y="270"/>
                </a:cubicBezTo>
                <a:cubicBezTo>
                  <a:pt x="191" y="275"/>
                  <a:pt x="193" y="263"/>
                  <a:pt x="196" y="251"/>
                </a:cubicBezTo>
                <a:cubicBezTo>
                  <a:pt x="202" y="248"/>
                  <a:pt x="210" y="249"/>
                  <a:pt x="218" y="249"/>
                </a:cubicBezTo>
                <a:cubicBezTo>
                  <a:pt x="247" y="260"/>
                  <a:pt x="186" y="291"/>
                  <a:pt x="181" y="294"/>
                </a:cubicBezTo>
                <a:cubicBezTo>
                  <a:pt x="179" y="294"/>
                  <a:pt x="176" y="295"/>
                  <a:pt x="174" y="295"/>
                </a:cubicBezTo>
                <a:close/>
                <a:moveTo>
                  <a:pt x="109" y="287"/>
                </a:moveTo>
                <a:cubicBezTo>
                  <a:pt x="100" y="286"/>
                  <a:pt x="84" y="285"/>
                  <a:pt x="78" y="278"/>
                </a:cubicBezTo>
                <a:cubicBezTo>
                  <a:pt x="69" y="239"/>
                  <a:pt x="151" y="268"/>
                  <a:pt x="120" y="287"/>
                </a:cubicBezTo>
                <a:cubicBezTo>
                  <a:pt x="116" y="287"/>
                  <a:pt x="112" y="287"/>
                  <a:pt x="109" y="287"/>
                </a:cubicBezTo>
                <a:close/>
                <a:moveTo>
                  <a:pt x="313" y="274"/>
                </a:moveTo>
                <a:cubicBezTo>
                  <a:pt x="313" y="274"/>
                  <a:pt x="313" y="273"/>
                  <a:pt x="313" y="273"/>
                </a:cubicBezTo>
                <a:cubicBezTo>
                  <a:pt x="314" y="269"/>
                  <a:pt x="332" y="267"/>
                  <a:pt x="336" y="266"/>
                </a:cubicBezTo>
                <a:cubicBezTo>
                  <a:pt x="336" y="266"/>
                  <a:pt x="337" y="267"/>
                  <a:pt x="337" y="267"/>
                </a:cubicBezTo>
                <a:cubicBezTo>
                  <a:pt x="336" y="270"/>
                  <a:pt x="318" y="273"/>
                  <a:pt x="313" y="274"/>
                </a:cubicBezTo>
                <a:close/>
                <a:moveTo>
                  <a:pt x="368" y="273"/>
                </a:moveTo>
                <a:cubicBezTo>
                  <a:pt x="362" y="272"/>
                  <a:pt x="356" y="269"/>
                  <a:pt x="350" y="267"/>
                </a:cubicBezTo>
                <a:cubicBezTo>
                  <a:pt x="341" y="267"/>
                  <a:pt x="341" y="267"/>
                  <a:pt x="341" y="266"/>
                </a:cubicBezTo>
                <a:cubicBezTo>
                  <a:pt x="361" y="262"/>
                  <a:pt x="381" y="258"/>
                  <a:pt x="401" y="254"/>
                </a:cubicBezTo>
                <a:cubicBezTo>
                  <a:pt x="410" y="250"/>
                  <a:pt x="440" y="231"/>
                  <a:pt x="443" y="251"/>
                </a:cubicBezTo>
                <a:cubicBezTo>
                  <a:pt x="424" y="273"/>
                  <a:pt x="396" y="270"/>
                  <a:pt x="368" y="273"/>
                </a:cubicBezTo>
                <a:close/>
                <a:moveTo>
                  <a:pt x="75" y="219"/>
                </a:moveTo>
                <a:cubicBezTo>
                  <a:pt x="49" y="214"/>
                  <a:pt x="29" y="205"/>
                  <a:pt x="16" y="181"/>
                </a:cubicBezTo>
                <a:cubicBezTo>
                  <a:pt x="14" y="156"/>
                  <a:pt x="30" y="150"/>
                  <a:pt x="51" y="150"/>
                </a:cubicBezTo>
                <a:cubicBezTo>
                  <a:pt x="64" y="156"/>
                  <a:pt x="57" y="173"/>
                  <a:pt x="45" y="176"/>
                </a:cubicBezTo>
                <a:cubicBezTo>
                  <a:pt x="46" y="169"/>
                  <a:pt x="55" y="164"/>
                  <a:pt x="49" y="157"/>
                </a:cubicBezTo>
                <a:cubicBezTo>
                  <a:pt x="29" y="148"/>
                  <a:pt x="16" y="161"/>
                  <a:pt x="21" y="181"/>
                </a:cubicBezTo>
                <a:cubicBezTo>
                  <a:pt x="37" y="211"/>
                  <a:pt x="85" y="220"/>
                  <a:pt x="115" y="211"/>
                </a:cubicBezTo>
                <a:cubicBezTo>
                  <a:pt x="121" y="208"/>
                  <a:pt x="121" y="208"/>
                  <a:pt x="127" y="202"/>
                </a:cubicBezTo>
                <a:cubicBezTo>
                  <a:pt x="126" y="189"/>
                  <a:pt x="123" y="184"/>
                  <a:pt x="109" y="188"/>
                </a:cubicBezTo>
                <a:cubicBezTo>
                  <a:pt x="108" y="190"/>
                  <a:pt x="108" y="190"/>
                  <a:pt x="108" y="198"/>
                </a:cubicBezTo>
                <a:cubicBezTo>
                  <a:pt x="88" y="192"/>
                  <a:pt x="87" y="181"/>
                  <a:pt x="87" y="162"/>
                </a:cubicBezTo>
                <a:cubicBezTo>
                  <a:pt x="89" y="156"/>
                  <a:pt x="89" y="156"/>
                  <a:pt x="90" y="154"/>
                </a:cubicBezTo>
                <a:cubicBezTo>
                  <a:pt x="95" y="154"/>
                  <a:pt x="100" y="160"/>
                  <a:pt x="104" y="163"/>
                </a:cubicBezTo>
                <a:cubicBezTo>
                  <a:pt x="120" y="168"/>
                  <a:pt x="138" y="162"/>
                  <a:pt x="154" y="158"/>
                </a:cubicBezTo>
                <a:cubicBezTo>
                  <a:pt x="166" y="159"/>
                  <a:pt x="207" y="167"/>
                  <a:pt x="214" y="153"/>
                </a:cubicBezTo>
                <a:cubicBezTo>
                  <a:pt x="208" y="142"/>
                  <a:pt x="158" y="147"/>
                  <a:pt x="148" y="147"/>
                </a:cubicBezTo>
                <a:cubicBezTo>
                  <a:pt x="137" y="149"/>
                  <a:pt x="126" y="151"/>
                  <a:pt x="114" y="151"/>
                </a:cubicBezTo>
                <a:cubicBezTo>
                  <a:pt x="105" y="148"/>
                  <a:pt x="76" y="138"/>
                  <a:pt x="76" y="124"/>
                </a:cubicBezTo>
                <a:cubicBezTo>
                  <a:pt x="88" y="123"/>
                  <a:pt x="95" y="129"/>
                  <a:pt x="104" y="136"/>
                </a:cubicBezTo>
                <a:cubicBezTo>
                  <a:pt x="108" y="137"/>
                  <a:pt x="113" y="139"/>
                  <a:pt x="117" y="140"/>
                </a:cubicBezTo>
                <a:cubicBezTo>
                  <a:pt x="128" y="140"/>
                  <a:pt x="128" y="140"/>
                  <a:pt x="156" y="138"/>
                </a:cubicBezTo>
                <a:cubicBezTo>
                  <a:pt x="180" y="138"/>
                  <a:pt x="204" y="141"/>
                  <a:pt x="228" y="145"/>
                </a:cubicBezTo>
                <a:cubicBezTo>
                  <a:pt x="243" y="149"/>
                  <a:pt x="308" y="173"/>
                  <a:pt x="308" y="138"/>
                </a:cubicBezTo>
                <a:cubicBezTo>
                  <a:pt x="297" y="130"/>
                  <a:pt x="272" y="139"/>
                  <a:pt x="260" y="140"/>
                </a:cubicBezTo>
                <a:cubicBezTo>
                  <a:pt x="229" y="133"/>
                  <a:pt x="199" y="127"/>
                  <a:pt x="169" y="120"/>
                </a:cubicBezTo>
                <a:cubicBezTo>
                  <a:pt x="163" y="117"/>
                  <a:pt x="156" y="109"/>
                  <a:pt x="149" y="109"/>
                </a:cubicBezTo>
                <a:cubicBezTo>
                  <a:pt x="145" y="114"/>
                  <a:pt x="145" y="122"/>
                  <a:pt x="147" y="128"/>
                </a:cubicBezTo>
                <a:cubicBezTo>
                  <a:pt x="145" y="127"/>
                  <a:pt x="143" y="127"/>
                  <a:pt x="141" y="126"/>
                </a:cubicBezTo>
                <a:cubicBezTo>
                  <a:pt x="139" y="121"/>
                  <a:pt x="134" y="103"/>
                  <a:pt x="131" y="103"/>
                </a:cubicBezTo>
                <a:cubicBezTo>
                  <a:pt x="127" y="111"/>
                  <a:pt x="127" y="115"/>
                  <a:pt x="126" y="123"/>
                </a:cubicBezTo>
                <a:cubicBezTo>
                  <a:pt x="120" y="117"/>
                  <a:pt x="117" y="111"/>
                  <a:pt x="113" y="104"/>
                </a:cubicBezTo>
                <a:cubicBezTo>
                  <a:pt x="110" y="101"/>
                  <a:pt x="106" y="98"/>
                  <a:pt x="103" y="95"/>
                </a:cubicBezTo>
                <a:cubicBezTo>
                  <a:pt x="91" y="90"/>
                  <a:pt x="89" y="87"/>
                  <a:pt x="89" y="74"/>
                </a:cubicBezTo>
                <a:cubicBezTo>
                  <a:pt x="93" y="72"/>
                  <a:pt x="96" y="71"/>
                  <a:pt x="101" y="71"/>
                </a:cubicBezTo>
                <a:cubicBezTo>
                  <a:pt x="102" y="69"/>
                  <a:pt x="102" y="69"/>
                  <a:pt x="104" y="60"/>
                </a:cubicBezTo>
                <a:cubicBezTo>
                  <a:pt x="113" y="54"/>
                  <a:pt x="121" y="58"/>
                  <a:pt x="126" y="65"/>
                </a:cubicBezTo>
                <a:cubicBezTo>
                  <a:pt x="129" y="76"/>
                  <a:pt x="129" y="76"/>
                  <a:pt x="130" y="78"/>
                </a:cubicBezTo>
                <a:cubicBezTo>
                  <a:pt x="130" y="78"/>
                  <a:pt x="131" y="78"/>
                  <a:pt x="132" y="78"/>
                </a:cubicBezTo>
                <a:cubicBezTo>
                  <a:pt x="133" y="75"/>
                  <a:pt x="135" y="73"/>
                  <a:pt x="137" y="70"/>
                </a:cubicBezTo>
                <a:cubicBezTo>
                  <a:pt x="139" y="70"/>
                  <a:pt x="141" y="70"/>
                  <a:pt x="144" y="70"/>
                </a:cubicBezTo>
                <a:cubicBezTo>
                  <a:pt x="149" y="76"/>
                  <a:pt x="154" y="82"/>
                  <a:pt x="159" y="89"/>
                </a:cubicBezTo>
                <a:cubicBezTo>
                  <a:pt x="171" y="95"/>
                  <a:pt x="209" y="108"/>
                  <a:pt x="219" y="93"/>
                </a:cubicBezTo>
                <a:cubicBezTo>
                  <a:pt x="217" y="88"/>
                  <a:pt x="214" y="86"/>
                  <a:pt x="210" y="83"/>
                </a:cubicBezTo>
                <a:cubicBezTo>
                  <a:pt x="204" y="66"/>
                  <a:pt x="225" y="60"/>
                  <a:pt x="238" y="63"/>
                </a:cubicBezTo>
                <a:cubicBezTo>
                  <a:pt x="248" y="69"/>
                  <a:pt x="253" y="74"/>
                  <a:pt x="260" y="78"/>
                </a:cubicBezTo>
                <a:cubicBezTo>
                  <a:pt x="284" y="81"/>
                  <a:pt x="305" y="89"/>
                  <a:pt x="317" y="62"/>
                </a:cubicBezTo>
                <a:cubicBezTo>
                  <a:pt x="317" y="51"/>
                  <a:pt x="315" y="40"/>
                  <a:pt x="315" y="29"/>
                </a:cubicBezTo>
                <a:cubicBezTo>
                  <a:pt x="317" y="26"/>
                  <a:pt x="319" y="24"/>
                  <a:pt x="320" y="21"/>
                </a:cubicBezTo>
                <a:cubicBezTo>
                  <a:pt x="322" y="21"/>
                  <a:pt x="324" y="21"/>
                  <a:pt x="326" y="20"/>
                </a:cubicBezTo>
                <a:cubicBezTo>
                  <a:pt x="329" y="23"/>
                  <a:pt x="331" y="26"/>
                  <a:pt x="333" y="29"/>
                </a:cubicBezTo>
                <a:cubicBezTo>
                  <a:pt x="333" y="29"/>
                  <a:pt x="334" y="29"/>
                  <a:pt x="335" y="29"/>
                </a:cubicBezTo>
                <a:cubicBezTo>
                  <a:pt x="344" y="13"/>
                  <a:pt x="342" y="3"/>
                  <a:pt x="363" y="0"/>
                </a:cubicBezTo>
                <a:cubicBezTo>
                  <a:pt x="382" y="17"/>
                  <a:pt x="360" y="38"/>
                  <a:pt x="348" y="52"/>
                </a:cubicBezTo>
                <a:cubicBezTo>
                  <a:pt x="333" y="82"/>
                  <a:pt x="316" y="113"/>
                  <a:pt x="278" y="99"/>
                </a:cubicBezTo>
                <a:cubicBezTo>
                  <a:pt x="270" y="94"/>
                  <a:pt x="235" y="74"/>
                  <a:pt x="235" y="98"/>
                </a:cubicBezTo>
                <a:cubicBezTo>
                  <a:pt x="245" y="112"/>
                  <a:pt x="274" y="122"/>
                  <a:pt x="291" y="116"/>
                </a:cubicBezTo>
                <a:cubicBezTo>
                  <a:pt x="305" y="109"/>
                  <a:pt x="308" y="107"/>
                  <a:pt x="323" y="107"/>
                </a:cubicBezTo>
                <a:cubicBezTo>
                  <a:pt x="344" y="112"/>
                  <a:pt x="344" y="112"/>
                  <a:pt x="356" y="114"/>
                </a:cubicBezTo>
                <a:cubicBezTo>
                  <a:pt x="365" y="123"/>
                  <a:pt x="372" y="130"/>
                  <a:pt x="371" y="143"/>
                </a:cubicBezTo>
                <a:cubicBezTo>
                  <a:pt x="367" y="145"/>
                  <a:pt x="362" y="147"/>
                  <a:pt x="358" y="150"/>
                </a:cubicBezTo>
                <a:cubicBezTo>
                  <a:pt x="347" y="153"/>
                  <a:pt x="330" y="152"/>
                  <a:pt x="323" y="162"/>
                </a:cubicBezTo>
                <a:cubicBezTo>
                  <a:pt x="323" y="163"/>
                  <a:pt x="324" y="164"/>
                  <a:pt x="325" y="166"/>
                </a:cubicBezTo>
                <a:cubicBezTo>
                  <a:pt x="332" y="166"/>
                  <a:pt x="340" y="164"/>
                  <a:pt x="347" y="162"/>
                </a:cubicBezTo>
                <a:cubicBezTo>
                  <a:pt x="401" y="142"/>
                  <a:pt x="405" y="139"/>
                  <a:pt x="407" y="140"/>
                </a:cubicBezTo>
                <a:cubicBezTo>
                  <a:pt x="394" y="149"/>
                  <a:pt x="394" y="149"/>
                  <a:pt x="382" y="156"/>
                </a:cubicBezTo>
                <a:cubicBezTo>
                  <a:pt x="371" y="160"/>
                  <a:pt x="354" y="165"/>
                  <a:pt x="345" y="173"/>
                </a:cubicBezTo>
                <a:cubicBezTo>
                  <a:pt x="346" y="174"/>
                  <a:pt x="346" y="174"/>
                  <a:pt x="346" y="175"/>
                </a:cubicBezTo>
                <a:cubicBezTo>
                  <a:pt x="367" y="175"/>
                  <a:pt x="389" y="164"/>
                  <a:pt x="408" y="158"/>
                </a:cubicBezTo>
                <a:cubicBezTo>
                  <a:pt x="428" y="148"/>
                  <a:pt x="428" y="148"/>
                  <a:pt x="431" y="145"/>
                </a:cubicBezTo>
                <a:cubicBezTo>
                  <a:pt x="432" y="145"/>
                  <a:pt x="432" y="145"/>
                  <a:pt x="433" y="146"/>
                </a:cubicBezTo>
                <a:cubicBezTo>
                  <a:pt x="417" y="161"/>
                  <a:pt x="391" y="170"/>
                  <a:pt x="371" y="178"/>
                </a:cubicBezTo>
                <a:cubicBezTo>
                  <a:pt x="371" y="178"/>
                  <a:pt x="371" y="179"/>
                  <a:pt x="371" y="179"/>
                </a:cubicBezTo>
                <a:cubicBezTo>
                  <a:pt x="398" y="178"/>
                  <a:pt x="425" y="170"/>
                  <a:pt x="449" y="155"/>
                </a:cubicBezTo>
                <a:cubicBezTo>
                  <a:pt x="449" y="155"/>
                  <a:pt x="450" y="155"/>
                  <a:pt x="451" y="156"/>
                </a:cubicBezTo>
                <a:cubicBezTo>
                  <a:pt x="439" y="169"/>
                  <a:pt x="428" y="177"/>
                  <a:pt x="412" y="185"/>
                </a:cubicBezTo>
                <a:cubicBezTo>
                  <a:pt x="404" y="188"/>
                  <a:pt x="396" y="191"/>
                  <a:pt x="389" y="194"/>
                </a:cubicBezTo>
                <a:cubicBezTo>
                  <a:pt x="350" y="199"/>
                  <a:pt x="312" y="203"/>
                  <a:pt x="273" y="199"/>
                </a:cubicBezTo>
                <a:cubicBezTo>
                  <a:pt x="239" y="193"/>
                  <a:pt x="154" y="157"/>
                  <a:pt x="132" y="202"/>
                </a:cubicBezTo>
                <a:cubicBezTo>
                  <a:pt x="118" y="218"/>
                  <a:pt x="94" y="218"/>
                  <a:pt x="75" y="219"/>
                </a:cubicBezTo>
                <a:close/>
                <a:moveTo>
                  <a:pt x="251" y="105"/>
                </a:moveTo>
                <a:cubicBezTo>
                  <a:pt x="249" y="104"/>
                  <a:pt x="248" y="104"/>
                  <a:pt x="247" y="103"/>
                </a:cubicBezTo>
                <a:cubicBezTo>
                  <a:pt x="247" y="101"/>
                  <a:pt x="247" y="98"/>
                  <a:pt x="247" y="96"/>
                </a:cubicBezTo>
                <a:cubicBezTo>
                  <a:pt x="255" y="92"/>
                  <a:pt x="258" y="96"/>
                  <a:pt x="260" y="102"/>
                </a:cubicBezTo>
                <a:cubicBezTo>
                  <a:pt x="256" y="104"/>
                  <a:pt x="254" y="105"/>
                  <a:pt x="251" y="105"/>
                </a:cubicBezTo>
                <a:close/>
                <a:moveTo>
                  <a:pt x="351" y="103"/>
                </a:moveTo>
                <a:cubicBezTo>
                  <a:pt x="350" y="103"/>
                  <a:pt x="350" y="102"/>
                  <a:pt x="349" y="102"/>
                </a:cubicBezTo>
                <a:cubicBezTo>
                  <a:pt x="355" y="98"/>
                  <a:pt x="364" y="91"/>
                  <a:pt x="364" y="84"/>
                </a:cubicBezTo>
                <a:cubicBezTo>
                  <a:pt x="354" y="77"/>
                  <a:pt x="346" y="89"/>
                  <a:pt x="340" y="97"/>
                </a:cubicBezTo>
                <a:cubicBezTo>
                  <a:pt x="340" y="80"/>
                  <a:pt x="353" y="63"/>
                  <a:pt x="365" y="52"/>
                </a:cubicBezTo>
                <a:cubicBezTo>
                  <a:pt x="377" y="45"/>
                  <a:pt x="391" y="36"/>
                  <a:pt x="405" y="35"/>
                </a:cubicBezTo>
                <a:cubicBezTo>
                  <a:pt x="386" y="80"/>
                  <a:pt x="386" y="80"/>
                  <a:pt x="380" y="91"/>
                </a:cubicBezTo>
                <a:cubicBezTo>
                  <a:pt x="371" y="100"/>
                  <a:pt x="363" y="103"/>
                  <a:pt x="351" y="103"/>
                </a:cubicBezTo>
                <a:close/>
                <a:moveTo>
                  <a:pt x="392" y="644"/>
                </a:moveTo>
                <a:cubicBezTo>
                  <a:pt x="392" y="612"/>
                  <a:pt x="391" y="580"/>
                  <a:pt x="391" y="549"/>
                </a:cubicBezTo>
                <a:cubicBezTo>
                  <a:pt x="383" y="549"/>
                  <a:pt x="364" y="545"/>
                  <a:pt x="356" y="549"/>
                </a:cubicBezTo>
                <a:cubicBezTo>
                  <a:pt x="356" y="580"/>
                  <a:pt x="356" y="611"/>
                  <a:pt x="356" y="643"/>
                </a:cubicBezTo>
                <a:cubicBezTo>
                  <a:pt x="279" y="620"/>
                  <a:pt x="201" y="600"/>
                  <a:pt x="121" y="594"/>
                </a:cubicBezTo>
                <a:cubicBezTo>
                  <a:pt x="121" y="506"/>
                  <a:pt x="121" y="418"/>
                  <a:pt x="121" y="331"/>
                </a:cubicBezTo>
                <a:cubicBezTo>
                  <a:pt x="194" y="342"/>
                  <a:pt x="269" y="353"/>
                  <a:pt x="344" y="361"/>
                </a:cubicBezTo>
                <a:cubicBezTo>
                  <a:pt x="347" y="362"/>
                  <a:pt x="350" y="363"/>
                  <a:pt x="354" y="364"/>
                </a:cubicBezTo>
                <a:cubicBezTo>
                  <a:pt x="354" y="390"/>
                  <a:pt x="355" y="417"/>
                  <a:pt x="355" y="444"/>
                </a:cubicBezTo>
                <a:cubicBezTo>
                  <a:pt x="367" y="444"/>
                  <a:pt x="379" y="444"/>
                  <a:pt x="390" y="444"/>
                </a:cubicBezTo>
                <a:cubicBezTo>
                  <a:pt x="391" y="417"/>
                  <a:pt x="391" y="390"/>
                  <a:pt x="391" y="363"/>
                </a:cubicBezTo>
                <a:cubicBezTo>
                  <a:pt x="427" y="359"/>
                  <a:pt x="462" y="352"/>
                  <a:pt x="498" y="346"/>
                </a:cubicBezTo>
                <a:cubicBezTo>
                  <a:pt x="547" y="340"/>
                  <a:pt x="619" y="328"/>
                  <a:pt x="627" y="327"/>
                </a:cubicBezTo>
                <a:cubicBezTo>
                  <a:pt x="627" y="415"/>
                  <a:pt x="628" y="503"/>
                  <a:pt x="628" y="591"/>
                </a:cubicBezTo>
                <a:cubicBezTo>
                  <a:pt x="578" y="597"/>
                  <a:pt x="528" y="611"/>
                  <a:pt x="480" y="621"/>
                </a:cubicBezTo>
                <a:cubicBezTo>
                  <a:pt x="451" y="628"/>
                  <a:pt x="421" y="637"/>
                  <a:pt x="392" y="6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33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33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33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34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50"/>
          <p:cNvSpPr/>
          <p:nvPr/>
        </p:nvSpPr>
        <p:spPr>
          <a:xfrm>
            <a:off x="1944720" y="316692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新知识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微分方程的基本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51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34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350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小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51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54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回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2"/>
          <p:cNvGraphicFramePr/>
          <p:nvPr/>
        </p:nvGraphicFramePr>
        <p:xfrm>
          <a:off x="285840" y="857160"/>
          <a:ext cx="8429400" cy="200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857160"/>
                    <a:ext cx="842940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60" name="AutoShape 34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63" name="AutoShape 35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66" name="AutoShape 3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69" name="AutoShape 37" descr="">
              <a:hlinkClick r:id="" action="ppaction://hlinkshowjump?jump=las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9"/>
          <p:cNvGraphicFramePr/>
          <p:nvPr/>
        </p:nvGraphicFramePr>
        <p:xfrm>
          <a:off x="642960" y="1785960"/>
          <a:ext cx="7000920" cy="1571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74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2960" y="1785960"/>
                    <a:ext cx="700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8"/>
          <p:cNvGraphicFramePr/>
          <p:nvPr/>
        </p:nvGraphicFramePr>
        <p:xfrm>
          <a:off x="928800" y="2857680"/>
          <a:ext cx="5935680" cy="12855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6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8800" y="2857680"/>
                    <a:ext cx="593568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5"/>
          <p:cNvGraphicFramePr/>
          <p:nvPr/>
        </p:nvGraphicFramePr>
        <p:xfrm>
          <a:off x="857160" y="3429000"/>
          <a:ext cx="7215120" cy="182556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57160" y="3429000"/>
                    <a:ext cx="721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30"/>
          <p:cNvGraphicFramePr/>
          <p:nvPr/>
        </p:nvGraphicFramePr>
        <p:xfrm>
          <a:off x="1214280" y="4786200"/>
          <a:ext cx="6715440" cy="14954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80" name="Object 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4280" y="4786200"/>
                    <a:ext cx="671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8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86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90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93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96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99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785880" y="928800"/>
          <a:ext cx="7683480" cy="133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928800"/>
                    <a:ext cx="768348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7"/>
          <p:cNvGraphicFramePr/>
          <p:nvPr/>
        </p:nvGraphicFramePr>
        <p:xfrm>
          <a:off x="1285920" y="4714920"/>
          <a:ext cx="6072120" cy="12142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6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85920" y="4714920"/>
                    <a:ext cx="60721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4"/>
          <p:cNvGraphicFramePr/>
          <p:nvPr/>
        </p:nvGraphicFramePr>
        <p:xfrm>
          <a:off x="785880" y="2071800"/>
          <a:ext cx="7718400" cy="25714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08" name="Object 5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5880" y="2071800"/>
                    <a:ext cx="771840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20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11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14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17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20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1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25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28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Object 28"/>
          <p:cNvGraphicFramePr/>
          <p:nvPr/>
        </p:nvGraphicFramePr>
        <p:xfrm>
          <a:off x="571680" y="714240"/>
          <a:ext cx="8161200" cy="250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Object 2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714240"/>
                    <a:ext cx="8161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29"/>
          <p:cNvGraphicFramePr/>
          <p:nvPr/>
        </p:nvGraphicFramePr>
        <p:xfrm>
          <a:off x="785880" y="3143160"/>
          <a:ext cx="7410240" cy="2309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34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3143160"/>
                    <a:ext cx="74102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37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课堂练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4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4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5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5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8"/>
          <p:cNvGraphicFramePr/>
          <p:nvPr/>
        </p:nvGraphicFramePr>
        <p:xfrm>
          <a:off x="1000080" y="1214280"/>
          <a:ext cx="6607080" cy="135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1214280"/>
                    <a:ext cx="66070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0"/>
          <p:cNvGraphicFramePr/>
          <p:nvPr/>
        </p:nvGraphicFramePr>
        <p:xfrm>
          <a:off x="909720" y="3000240"/>
          <a:ext cx="7753320" cy="2156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9720" y="3000240"/>
                    <a:ext cx="77533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1"/>
          <p:cNvGraphicFramePr/>
          <p:nvPr/>
        </p:nvGraphicFramePr>
        <p:xfrm>
          <a:off x="3214800" y="1643040"/>
          <a:ext cx="1011240" cy="357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14800" y="1643040"/>
                    <a:ext cx="101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2"/>
          <p:cNvGraphicFramePr/>
          <p:nvPr/>
        </p:nvGraphicFramePr>
        <p:xfrm>
          <a:off x="6500880" y="1643040"/>
          <a:ext cx="1011240" cy="357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00880" y="1643040"/>
                    <a:ext cx="101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4071960" y="2143080"/>
          <a:ext cx="1011240" cy="357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71960" y="2143080"/>
                    <a:ext cx="10112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7143840" y="2143080"/>
          <a:ext cx="296640" cy="357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43840" y="2143080"/>
                    <a:ext cx="2966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5"/>
          <p:cNvGraphicFramePr/>
          <p:nvPr/>
        </p:nvGraphicFramePr>
        <p:xfrm>
          <a:off x="4095720" y="3643200"/>
          <a:ext cx="534960" cy="357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Object 1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095720" y="3643200"/>
                    <a:ext cx="5349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6"/>
          <p:cNvGraphicFramePr/>
          <p:nvPr/>
        </p:nvGraphicFramePr>
        <p:xfrm>
          <a:off x="7358040" y="3286080"/>
          <a:ext cx="534960" cy="357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Object 1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358040" y="3286080"/>
                    <a:ext cx="534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7"/>
          <p:cNvGraphicFramePr/>
          <p:nvPr/>
        </p:nvGraphicFramePr>
        <p:xfrm>
          <a:off x="4572000" y="4572000"/>
          <a:ext cx="534960" cy="357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4" name="Object 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572000" y="4572000"/>
                    <a:ext cx="534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8"/>
          <p:cNvGraphicFramePr/>
          <p:nvPr/>
        </p:nvGraphicFramePr>
        <p:xfrm>
          <a:off x="8072280" y="4286160"/>
          <a:ext cx="535320" cy="3571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76" name="Object 1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072280" y="4286160"/>
                    <a:ext cx="5353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圆角矩形 19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179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182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185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188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2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193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196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Object 2"/>
          <p:cNvGraphicFramePr/>
          <p:nvPr/>
        </p:nvGraphicFramePr>
        <p:xfrm>
          <a:off x="928800" y="642960"/>
          <a:ext cx="7091280" cy="1411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642960"/>
                    <a:ext cx="70912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7"/>
          <p:cNvGraphicFramePr/>
          <p:nvPr/>
        </p:nvGraphicFramePr>
        <p:xfrm>
          <a:off x="722160" y="1571760"/>
          <a:ext cx="4988160" cy="40748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0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2160" y="1571760"/>
                    <a:ext cx="498816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28" descr=""/>
          <p:cNvPicPr/>
          <p:nvPr/>
        </p:nvPicPr>
        <p:blipFill>
          <a:blip r:embed="rId10"/>
          <a:stretch/>
        </p:blipFill>
        <p:spPr>
          <a:xfrm>
            <a:off x="5500800" y="1643040"/>
            <a:ext cx="321624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Object 29"/>
          <p:cNvGraphicFramePr/>
          <p:nvPr/>
        </p:nvGraphicFramePr>
        <p:xfrm>
          <a:off x="1143000" y="5541840"/>
          <a:ext cx="7089840" cy="13161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541840"/>
                    <a:ext cx="7089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0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34"/>
            <p:cNvGrpSpPr/>
            <p:nvPr/>
          </p:nvGrpSpPr>
          <p:grpSpPr>
            <a:xfrm>
              <a:off x="947160" y="224640"/>
              <a:ext cx="1824120" cy="439560"/>
              <a:chOff x="947160" y="224640"/>
              <a:chExt cx="1824120" cy="439560"/>
            </a:xfrm>
          </p:grpSpPr>
          <p:sp>
            <p:nvSpPr>
              <p:cNvPr id="211" name="Freeform 35"/>
              <p:cNvSpPr/>
              <p:nvPr/>
            </p:nvSpPr>
            <p:spPr>
              <a:xfrm>
                <a:off x="947160" y="224640"/>
                <a:ext cx="1824120" cy="43956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6"/>
              <p:cNvSpPr/>
              <p:nvPr/>
            </p:nvSpPr>
            <p:spPr>
              <a:xfrm>
                <a:off x="963000" y="226080"/>
                <a:ext cx="179208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15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18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21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24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7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2"/>
          <p:cNvGraphicFramePr/>
          <p:nvPr/>
        </p:nvGraphicFramePr>
        <p:xfrm>
          <a:off x="714240" y="714240"/>
          <a:ext cx="7459920" cy="226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240" y="714240"/>
                    <a:ext cx="74599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26"/>
          <p:cNvGraphicFramePr/>
          <p:nvPr/>
        </p:nvGraphicFramePr>
        <p:xfrm>
          <a:off x="577800" y="2790720"/>
          <a:ext cx="6624720" cy="23097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31" name="Object 2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7800" y="2790720"/>
                    <a:ext cx="66247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571680" y="4357800"/>
          <a:ext cx="6929280" cy="22780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680" y="4357800"/>
                    <a:ext cx="69292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4"/>
          <p:cNvGraphicFramePr/>
          <p:nvPr/>
        </p:nvGraphicFramePr>
        <p:xfrm>
          <a:off x="4643280" y="4500720"/>
          <a:ext cx="986040" cy="37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4500720"/>
                    <a:ext cx="98604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5"/>
          <p:cNvGraphicFramePr/>
          <p:nvPr/>
        </p:nvGraphicFramePr>
        <p:xfrm>
          <a:off x="4714920" y="5857920"/>
          <a:ext cx="985680" cy="37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14920" y="5857920"/>
                    <a:ext cx="9856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4286160" y="4143240"/>
          <a:ext cx="1285920" cy="311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86160" y="4143240"/>
                    <a:ext cx="128592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圆角矩形 21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42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45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48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51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60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56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新知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2" name="Object 27"/>
          <p:cNvGraphicFramePr/>
          <p:nvPr/>
        </p:nvGraphicFramePr>
        <p:xfrm>
          <a:off x="857160" y="928800"/>
          <a:ext cx="7286760" cy="1928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3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928800"/>
                    <a:ext cx="72867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28"/>
          <p:cNvGraphicFramePr/>
          <p:nvPr/>
        </p:nvGraphicFramePr>
        <p:xfrm>
          <a:off x="857160" y="1643040"/>
          <a:ext cx="7545600" cy="18572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65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7160" y="1643040"/>
                    <a:ext cx="7545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2"/>
          <p:cNvGraphicFramePr/>
          <p:nvPr/>
        </p:nvGraphicFramePr>
        <p:xfrm>
          <a:off x="642960" y="2286000"/>
          <a:ext cx="7858080" cy="13572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60" y="2286000"/>
                    <a:ext cx="78580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0"/>
          <p:cNvGraphicFramePr/>
          <p:nvPr/>
        </p:nvGraphicFramePr>
        <p:xfrm>
          <a:off x="785880" y="3143160"/>
          <a:ext cx="7643880" cy="14288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269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5880" y="3143160"/>
                    <a:ext cx="764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31"/>
          <p:cNvGraphicFramePr/>
          <p:nvPr/>
        </p:nvGraphicFramePr>
        <p:xfrm>
          <a:off x="1143000" y="4572000"/>
          <a:ext cx="7358040" cy="14288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271" name="Object 3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4572000"/>
                    <a:ext cx="73580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圆角矩形 17"/>
          <p:cNvSpPr/>
          <p:nvPr/>
        </p:nvSpPr>
        <p:spPr>
          <a:xfrm>
            <a:off x="395280" y="404640"/>
            <a:ext cx="8353440" cy="6120000"/>
          </a:xfrm>
          <a:prstGeom prst="roundRect">
            <a:avLst>
              <a:gd name="adj" fmla="val 2903"/>
            </a:avLst>
          </a:prstGeom>
          <a:solidFill>
            <a:srgbClr val="dbeef4"/>
          </a:solidFill>
          <a:ln w="507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AutoShape 34"/>
          <p:cNvGrpSpPr/>
          <p:nvPr/>
        </p:nvGrpSpPr>
        <p:grpSpPr>
          <a:xfrm>
            <a:off x="7034040" y="6492960"/>
            <a:ext cx="543240" cy="444240"/>
            <a:chOff x="7034040" y="6492960"/>
            <a:chExt cx="543240" cy="444240"/>
          </a:xfrm>
        </p:grpSpPr>
        <p:pic>
          <p:nvPicPr>
            <p:cNvPr id="274" name="AutoShape 3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4040" y="6492960"/>
              <a:ext cx="5432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09308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AutoShape 35"/>
          <p:cNvGrpSpPr/>
          <p:nvPr/>
        </p:nvGrpSpPr>
        <p:grpSpPr>
          <a:xfrm>
            <a:off x="6608880" y="6492960"/>
            <a:ext cx="534960" cy="444240"/>
            <a:chOff x="6608880" y="6492960"/>
            <a:chExt cx="534960" cy="444240"/>
          </a:xfrm>
        </p:grpSpPr>
        <p:pic>
          <p:nvPicPr>
            <p:cNvPr id="277" name="AutoShape 3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8880" y="6492960"/>
              <a:ext cx="53496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659640" y="6524640"/>
              <a:ext cx="4334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AutoShape 36"/>
          <p:cNvGrpSpPr/>
          <p:nvPr/>
        </p:nvGrpSpPr>
        <p:grpSpPr>
          <a:xfrm>
            <a:off x="7467480" y="6492960"/>
            <a:ext cx="542880" cy="444240"/>
            <a:chOff x="7467480" y="6492960"/>
            <a:chExt cx="542880" cy="444240"/>
          </a:xfrm>
        </p:grpSpPr>
        <p:pic>
          <p:nvPicPr>
            <p:cNvPr id="280" name="AutoShape 3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492960"/>
              <a:ext cx="5428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524720" y="6524640"/>
              <a:ext cx="4320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AutoShape 37"/>
          <p:cNvGrpSpPr/>
          <p:nvPr/>
        </p:nvGrpSpPr>
        <p:grpSpPr>
          <a:xfrm>
            <a:off x="7900920" y="6492960"/>
            <a:ext cx="541440" cy="444240"/>
            <a:chOff x="7900920" y="6492960"/>
            <a:chExt cx="541440" cy="444240"/>
          </a:xfrm>
        </p:grpSpPr>
        <p:pic>
          <p:nvPicPr>
            <p:cNvPr id="283" name="AutoShape 37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900920" y="6492960"/>
              <a:ext cx="5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956720" y="6524640"/>
              <a:ext cx="431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页脚占位符 47"/>
          <p:cNvSpPr/>
          <p:nvPr/>
        </p:nvSpPr>
        <p:spPr>
          <a:xfrm>
            <a:off x="468360" y="6492960"/>
            <a:ext cx="40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6"/>
          <p:cNvSpPr/>
          <p:nvPr/>
        </p:nvSpPr>
        <p:spPr>
          <a:xfrm>
            <a:off x="4311720" y="442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4.1.1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微分方程及其通解与特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6"/>
          <p:cNvGrpSpPr/>
          <p:nvPr/>
        </p:nvGrpSpPr>
        <p:grpSpPr>
          <a:xfrm>
            <a:off x="755640" y="189000"/>
            <a:ext cx="2015640" cy="538920"/>
            <a:chOff x="755640" y="189000"/>
            <a:chExt cx="2015640" cy="538920"/>
          </a:xfrm>
        </p:grpSpPr>
        <p:sp>
          <p:nvSpPr>
            <p:cNvPr id="288" name="Freeform 32"/>
            <p:cNvSpPr/>
            <p:nvPr/>
          </p:nvSpPr>
          <p:spPr>
            <a:xfrm flipV="1">
              <a:off x="755640" y="677880"/>
              <a:ext cx="1910160" cy="49320"/>
            </a:xfrm>
            <a:custGeom>
              <a:avLst/>
              <a:gdLst>
                <a:gd name="textAreaLeft" fmla="*/ 0 w 1910160"/>
                <a:gd name="textAreaRight" fmla="*/ 1910520 w 1910160"/>
                <a:gd name="textAreaTop" fmla="*/ -360 h 49320"/>
                <a:gd name="textAreaBottom" fmla="*/ 49320 h 4932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eece1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755640" y="189000"/>
              <a:ext cx="1922040" cy="50256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95" h="1091">
                  <a:moveTo>
                    <a:pt x="184" y="3"/>
                  </a:moveTo>
                  <a:cubicBezTo>
                    <a:pt x="1319" y="1"/>
                    <a:pt x="2454" y="0"/>
                    <a:pt x="2454" y="0"/>
                  </a:cubicBezTo>
                  <a:cubicBezTo>
                    <a:pt x="2480" y="2"/>
                    <a:pt x="2495" y="23"/>
                    <a:pt x="2493" y="45"/>
                  </a:cubicBezTo>
                  <a:cubicBezTo>
                    <a:pt x="2493" y="45"/>
                    <a:pt x="2427" y="548"/>
                    <a:pt x="2361" y="1052"/>
                  </a:cubicBezTo>
                  <a:cubicBezTo>
                    <a:pt x="2358" y="1080"/>
                    <a:pt x="2349" y="1089"/>
                    <a:pt x="2321" y="1091"/>
                  </a:cubicBezTo>
                  <a:cubicBezTo>
                    <a:pt x="2321" y="1091"/>
                    <a:pt x="1187" y="1088"/>
                    <a:pt x="53" y="1085"/>
                  </a:cubicBezTo>
                  <a:cubicBezTo>
                    <a:pt x="24" y="1086"/>
                    <a:pt x="0" y="1076"/>
                    <a:pt x="5" y="1049"/>
                  </a:cubicBezTo>
                  <a:cubicBezTo>
                    <a:pt x="5" y="1049"/>
                    <a:pt x="69" y="544"/>
                    <a:pt x="133" y="39"/>
                  </a:cubicBezTo>
                  <a:cubicBezTo>
                    <a:pt x="138" y="9"/>
                    <a:pt x="159" y="0"/>
                    <a:pt x="184" y="3"/>
                  </a:cubicBezTo>
                  <a:close/>
                </a:path>
              </a:pathLst>
            </a:custGeom>
            <a:solidFill>
              <a:srgbClr val="00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34"/>
            <p:cNvGrpSpPr/>
            <p:nvPr/>
          </p:nvGrpSpPr>
          <p:grpSpPr>
            <a:xfrm>
              <a:off x="947160" y="218160"/>
              <a:ext cx="1824120" cy="447120"/>
              <a:chOff x="947160" y="218160"/>
              <a:chExt cx="1824120" cy="447120"/>
            </a:xfrm>
          </p:grpSpPr>
          <p:sp>
            <p:nvSpPr>
              <p:cNvPr id="291" name="Freeform 35"/>
              <p:cNvSpPr/>
              <p:nvPr/>
            </p:nvSpPr>
            <p:spPr>
              <a:xfrm>
                <a:off x="947160" y="218160"/>
                <a:ext cx="1824120" cy="447120"/>
              </a:xfrm>
              <a:custGeom>
                <a:avLst/>
                <a:gdLst/>
                <a:ahLst/>
                <a:rect l="l" t="t" r="r" b="b"/>
                <a:pathLst>
                  <a:path w="2495" h="1091">
                    <a:moveTo>
                      <a:pt x="184" y="3"/>
                    </a:moveTo>
                    <a:cubicBezTo>
                      <a:pt x="1319" y="1"/>
                      <a:pt x="2454" y="0"/>
                      <a:pt x="2454" y="0"/>
                    </a:cubicBezTo>
                    <a:cubicBezTo>
                      <a:pt x="2480" y="2"/>
                      <a:pt x="2495" y="23"/>
                      <a:pt x="2493" y="45"/>
                    </a:cubicBezTo>
                    <a:cubicBezTo>
                      <a:pt x="2493" y="45"/>
                      <a:pt x="2427" y="548"/>
                      <a:pt x="2361" y="1052"/>
                    </a:cubicBezTo>
                    <a:cubicBezTo>
                      <a:pt x="2358" y="1080"/>
                      <a:pt x="2349" y="1089"/>
                      <a:pt x="2321" y="1091"/>
                    </a:cubicBezTo>
                    <a:cubicBezTo>
                      <a:pt x="2321" y="1091"/>
                      <a:pt x="1187" y="1088"/>
                      <a:pt x="53" y="1085"/>
                    </a:cubicBezTo>
                    <a:cubicBezTo>
                      <a:pt x="24" y="1086"/>
                      <a:pt x="0" y="1076"/>
                      <a:pt x="5" y="1049"/>
                    </a:cubicBezTo>
                    <a:cubicBezTo>
                      <a:pt x="5" y="1049"/>
                      <a:pt x="69" y="544"/>
                      <a:pt x="133" y="39"/>
                    </a:cubicBezTo>
                    <a:cubicBezTo>
                      <a:pt x="138" y="9"/>
                      <a:pt x="159" y="0"/>
                      <a:pt x="184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  <a:effectLst>
                <a:outerShdw dist="36147" dir="135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6"/>
              <p:cNvSpPr/>
              <p:nvPr/>
            </p:nvSpPr>
            <p:spPr>
              <a:xfrm>
                <a:off x="963000" y="219600"/>
                <a:ext cx="1792080" cy="435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  <a:ea typeface="HY헤드라인M"/>
                  </a:rPr>
                  <a:t>知识巩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AutoShape 37"/>
            <p:cNvSpPr/>
            <p:nvPr/>
          </p:nvSpPr>
          <p:spPr>
            <a:xfrm>
              <a:off x="787680" y="215640"/>
              <a:ext cx="227520" cy="447480"/>
            </a:xfrm>
            <a:prstGeom prst="parallelogram">
              <a:avLst>
                <a:gd name="adj" fmla="val 43088"/>
              </a:avLst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4f81b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Object 27"/>
          <p:cNvGraphicFramePr/>
          <p:nvPr/>
        </p:nvGraphicFramePr>
        <p:xfrm>
          <a:off x="428760" y="571680"/>
          <a:ext cx="8215200" cy="1643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571680"/>
                    <a:ext cx="82152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28"/>
          <p:cNvGraphicFramePr/>
          <p:nvPr/>
        </p:nvGraphicFramePr>
        <p:xfrm>
          <a:off x="785880" y="4714920"/>
          <a:ext cx="7412040" cy="15080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97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4714920"/>
                    <a:ext cx="74120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29"/>
          <p:cNvGraphicFramePr/>
          <p:nvPr/>
        </p:nvGraphicFramePr>
        <p:xfrm>
          <a:off x="785880" y="1785960"/>
          <a:ext cx="7715160" cy="22114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99" name="Object 2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5880" y="1785960"/>
                    <a:ext cx="77151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30"/>
          <p:cNvGraphicFramePr/>
          <p:nvPr/>
        </p:nvGraphicFramePr>
        <p:xfrm>
          <a:off x="785880" y="3429000"/>
          <a:ext cx="7358040" cy="16668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01" name="Object 3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5880" y="3429000"/>
                    <a:ext cx="735804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3:03:23Z</dcterms:created>
  <dc:creator>数学教研室</dc:creator>
  <dc:description/>
  <dc:language>en-US</dc:language>
  <cp:lastModifiedBy>Administrator</cp:lastModifiedBy>
  <dcterms:modified xsi:type="dcterms:W3CDTF">2017-11-06T01:00:54Z</dcterms:modified>
  <cp:revision>89</cp:revision>
  <dc:subject/>
  <dc:title>幻灯片 1</dc:title>
</cp:coreProperties>
</file>